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48.wmf" ContentType="image/x-wmf"/>
  <Override PartName="/ppt/media/image28.png" ContentType="image/png"/>
  <Override PartName="/ppt/media/image29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6881760" cy="929628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9178">
                <a:moveTo>
                  <a:pt x="5" y="0"/>
                </a:moveTo>
                <a:arcTo wR="5" hR="5" stAng="16200000" swAng="-5400000"/>
                <a:lnTo>
                  <a:pt x="0" y="29173"/>
                </a:lnTo>
                <a:arcTo wR="5" hR="5" stAng="10800000" swAng="-5400000"/>
                <a:lnTo>
                  <a:pt x="21595" y="2917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dt" idx="9"/>
          </p:nvPr>
        </p:nvSpPr>
        <p:spPr>
          <a:xfrm>
            <a:off x="389700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Img"/>
          </p:nvPr>
        </p:nvSpPr>
        <p:spPr>
          <a:xfrm>
            <a:off x="1117440" y="696600"/>
            <a:ext cx="464688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7160" bIns="471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2240" cy="41814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882792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0"/>
          </p:nvPr>
        </p:nvSpPr>
        <p:spPr>
          <a:xfrm>
            <a:off x="3897000" y="882972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</a:pPr>
            <a:fld id="{7B3A9CB6-4AAB-4119-9BC3-734430FFE65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7680" y="696960"/>
            <a:ext cx="458784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8680" y="4416480"/>
            <a:ext cx="550548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85" name="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9320"/>
                <a:tab algn="l" pos="2773440"/>
                <a:tab algn="l" pos="3697200"/>
                <a:tab algn="l" pos="4622760"/>
                <a:tab algn="l" pos="5546880"/>
                <a:tab algn="l" pos="6470640"/>
                <a:tab algn="l" pos="7396200"/>
                <a:tab algn="l" pos="8319960"/>
                <a:tab algn="l" pos="9244080"/>
                <a:tab algn="l" pos="10169640"/>
                <a:tab algn="l" pos="10625040"/>
              </a:tabLst>
            </a:pPr>
            <a:fld id="{5DD0DC30-776A-4521-B8E9-6D674DA24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66C9-C4D1-4C69-8142-0A23A81462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9FAF-7889-47C5-8073-7864E208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B42B-56DC-493F-BAD3-04F53CBE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32E6-FF45-435F-B1BE-0C9B2A2C99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016C4-F6DD-47FA-9ED0-C37706B9BA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95840-C928-4AA6-A459-C37503FD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CFBC5-5AB0-43B7-9C48-7F9B2037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2DF1E-60FE-4D1D-B45C-F5630C01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186B1-0E98-47C4-8456-6E841C63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5AD31-E94A-4DC6-B22A-A3912F91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A4470-B384-40CC-8F0D-245CD63A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0A23-EF04-4851-8764-E85D560D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3F4EB-AEA3-4592-ABC9-CE469A1E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A5029-095F-498E-BEC2-57491CC1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6B39E-984D-4FC3-A5E6-712DB7E3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5C34E-B2D6-4D7E-9D4F-16996277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697D3-B6BC-47B4-BF2F-193FEB768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9565-59D2-47F2-AF81-9D7385EB24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49B4-AB24-4E5D-AA52-02234D93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049C-B900-42C3-B3CE-E0D8D9F3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6B66-B101-4966-AC66-F2E53E4A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50D4-46B8-421B-AFA1-70152082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9281-B122-4257-8308-A909F57D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C3DB-005E-43C1-8B11-6E0606D2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0323-D406-43D4-B490-6C295586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A9A2-98E2-44F9-AE1D-71D5737A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0C31-2350-473E-BD77-EBD656C8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AE1D-CBB9-4F3E-AA0F-9A4B7A5F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540C-F42A-411D-A7C7-7D7A9186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ECD3-58E4-4A30-BC5E-B34BCDC884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4F55B-833B-4014-9065-0E17C051AF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D0187-5ABD-4D5A-83CB-6E413768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2D89C-E43D-4B7B-9AE5-6838E47F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2BC8-BEF9-42CF-8651-E7F15BB2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9AAF4-E203-4233-8918-642A2DC9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0AB2A-5F64-4E83-9B8B-3E8E23DF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59224-0870-48BA-83F7-1090A758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55F2B-EC9C-41B6-B271-B175EB68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C3091-ED02-4990-9A22-5C3947E1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E5BFC-6CBF-46CC-B766-A3E73C28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1EA1A-96A7-48DB-861E-CF902F01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28212-63F1-4EAC-860D-BD94B5AC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186E6-5C57-4645-B4C4-65720D5D4E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70C8-72E3-41CC-BB59-EA7F368E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287F-6BA5-41AA-B74C-1E23AF61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489FE-8E6A-44A7-A66F-1B3691B8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0270-DB92-459E-9A5C-8C0BD8C4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06E3-2326-419B-BAEE-DC220CC2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D39AFB-18F8-4F1F-8DDC-D82C8FE20EB8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65680E5-2F96-414D-B1D0-2106C37617A0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808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C579AA7-431A-433E-9FA2-A1B718455DEF}" type="slidenum">
              <a:rPr b="0" lang="en-US" sz="1200" spc="-1" strike="noStrike">
                <a:solidFill>
                  <a:srgbClr val="d1eaee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3CD1F-F0AA-462F-9997-F261D1C256FA}" type="slidenum">
              <a:rPr b="0" lang="en-US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28800" y="1600200"/>
            <a:ext cx="5486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ixed-Signal Circui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esign for Simple Spiking Neuron Mod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3429000"/>
            <a:ext cx="34290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bdullah H. Ozc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amshi Chatl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CE 6332 – Fall 200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niversity of Virgini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0" y="160020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14400" y="6858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124160" cy="345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572000" y="1828800"/>
            <a:ext cx="41148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1816200"/>
            <a:ext cx="4572000" cy="3670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4462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6019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800600" y="11430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114800" cy="5229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114800" y="1143000"/>
            <a:ext cx="4524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6320" y="1371600"/>
            <a:ext cx="815328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C results without gain booster sta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678204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9144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C results using gain booster sta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04920" y="1495440"/>
            <a:ext cx="8153280" cy="53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57200" y="137160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371600"/>
            <a:ext cx="3429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DC (4bit) Summa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Technology:  0.6 u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Avg Power:   14.2 m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Max Power:  23.9 m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Transistors used: 52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Supply Voltage: 5 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log Range: 1 V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ampling Rate: 100 MH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-9360" y="4648320"/>
            <a:ext cx="915336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9480" y="1082520"/>
            <a:ext cx="205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067360" y="4371840"/>
            <a:ext cx="3162240" cy="111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43000" y="2425680"/>
            <a:ext cx="5029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10^11 neurons, each neuron 10-10^5 synaps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Uses less power than your refrigerator ligh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Power matters; decreasing energy/spik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133640" y="4057560"/>
            <a:ext cx="298116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zhikevich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piking Neuron Mod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VLSI Circuit of Izhikevich’s Model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561440" cy="376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5800" y="6095880"/>
            <a:ext cx="81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Jayawan H. B. Wijekon, Piotr Dudek (2007)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piking and Bursting Firing Patterns of a Compact VLSI Cortical Neuron Circuit, Int. Joint   Conference on Neural Network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VLSI Circuit (0.35 μm</a:t>
            </a:r>
            <a:r>
              <a:rPr b="0" lang="en-US" sz="4600" spc="-1" strike="noStrike">
                <a:solidFill>
                  <a:srgbClr val="04617b"/>
                </a:solidFill>
                <a:latin typeface="Wingdings"/>
                <a:ea typeface="Wingdings"/>
              </a:rPr>
              <a:t></a:t>
            </a: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0.6 μm)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4038840" cy="2886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419720" y="1828800"/>
            <a:ext cx="3762360" cy="2838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80880" y="5029200"/>
            <a:ext cx="1638360" cy="638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457200" y="5943600"/>
            <a:ext cx="1409760" cy="495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2590920" y="1600200"/>
            <a:ext cx="3333600" cy="704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3352680" y="4952880"/>
            <a:ext cx="5353200" cy="847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2590920" y="5867280"/>
            <a:ext cx="61149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43000" y="11430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mparator P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6629400" cy="3429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71600" y="7779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atlab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85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ircuit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7486560" cy="2771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74674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ron Circuit Summar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5638680" cy="2689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066680" y="4876920"/>
            <a:ext cx="4419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Transistors used: 1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142.1  mW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119.29 mW (% 17 decrease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71600" y="160020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uture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2971800"/>
            <a:ext cx="4800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ADC, minimizing power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DAC circuit to drive synaptic input curr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Synaptic Modification Circui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* Levy's learning neuron mod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438280" y="114300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QUESTIONS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086280" y="19432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657600" y="4800600"/>
            <a:ext cx="2286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1371600"/>
            <a:ext cx="320040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ADC Circui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Neuron Circui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Conclus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9360" y="2743200"/>
            <a:ext cx="9153360" cy="1571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533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LOG TO DIGITAL CONVER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57200" y="685800"/>
            <a:ext cx="8661240" cy="925560"/>
            <a:chOff x="457200" y="685800"/>
            <a:chExt cx="8661240" cy="92556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457200" y="685800"/>
              <a:ext cx="866124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57200" y="685800"/>
              <a:ext cx="866124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5800" y="2819520"/>
            <a:ext cx="3486240" cy="809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914400" y="3886200"/>
            <a:ext cx="216216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122720" y="1954080"/>
            <a:ext cx="433548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210200" cy="4343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28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mparator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28600" y="1143000"/>
            <a:ext cx="364824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Gain Booster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400640" cy="4219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3520" y="5983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arper Transitions in the outpu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Constanti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ull voltage swing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184788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5335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XOR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876320" y="1371600"/>
            <a:ext cx="452448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9480" y="5335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ncoder  Stag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333440" y="1314360"/>
            <a:ext cx="6210360" cy="2800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971800" y="4572000"/>
            <a:ext cx="3124080" cy="13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02:35Z</dcterms:created>
  <dc:creator>vamshichatla</dc:creator>
  <dc:description/>
  <dc:language>en-US</dc:language>
  <cp:lastModifiedBy>hplp</cp:lastModifiedBy>
  <dcterms:modified xsi:type="dcterms:W3CDTF">2009-12-01T16:32:39Z</dcterms:modified>
  <cp:revision>19</cp:revision>
  <dc:subject/>
  <dc:title>Slide 1</dc:title>
</cp:coreProperties>
</file>